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B8F-FF3C-4F04-851D-054A7F62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CCB-B165-47D8-AC09-20A6FC6B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4EB-FEF4-4407-94D0-05AE51F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7A3-1DEE-40C6-901D-94BBECDB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104-99C9-4342-B315-DAF92B24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AF64-FFBC-4B85-B80D-317E9790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7F88-03A8-40B3-80A4-29256D1D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170E-4834-4D33-A35A-288A7B85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3B02-273E-490F-9B61-16E15F05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C4D7-B6B0-4074-891E-6A3D960D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4295-51A8-4761-A6D8-A755F049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5D7-FFC3-4B5F-9C77-FA4B16D6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9C43-93F0-4FA1-853B-5244F87C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F81B-8234-4D7D-898E-51618D1F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94FA-4AA4-41AE-9C59-BED0BBBB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71F5-2B5C-4FE5-B61C-40DB91D4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1CCB-4E46-4A29-86F3-43CD0428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03A-0ACA-47DB-8C8D-87DC2DE8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B06-E416-4265-8F66-1F2B5A1B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183-B47E-42E7-904F-BFF4CFAE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12F-3F62-4B6F-BA8C-CFCCB91F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5B8-5B15-4C0B-B3A0-FA739BC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559-3DFD-4ACE-B9AF-658A61E2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456-999C-41EC-85F0-5014AF98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E285-28A0-43F2-8104-72514B9DB770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12B1-5CC3-4ADC-B482-0E568E6BD118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t.wikipedia.org/wiki/Brasil" TargetMode="External"/><Relationship Id="rId2" Type="http://schemas.openxmlformats.org/officeDocument/2006/relationships/hyperlink" Target="http://pt.wikipedia.org/wiki/Negro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Zumbi_dos_Palmares" TargetMode="External"/><Relationship Id="rId2" Type="http://schemas.openxmlformats.org/officeDocument/2006/relationships/hyperlink" Target="http://pt.wikipedia.org/wiki/1695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Movimento_Negro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t.wikipedia.org/wiki/1960" TargetMode="External"/><Relationship Id="rId2" Type="http://schemas.openxmlformats.org/officeDocument/2006/relationships/hyperlink" Target="http://pt.wikipedia.org/wiki/13_de_Maio" TargetMode="External"/><Relationship Id="rId3" Type="http://schemas.openxmlformats.org/officeDocument/2006/relationships/hyperlink" Target="http://pt.wikipedia.org/wiki/Abolicionismo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nsciência Neg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Dia Da Consciência Negr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Dia 20 De Novemb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tuais Da Consciência Neg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tuais Dos Homen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enininha Negra é uma prova de  orgulho da Consciência Neg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m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♥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Alunas: Rubya e Letici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N° 30 e 3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Professora: Nilz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7° Ano 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 Consciência Neg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Dia da Consciência Negra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é celebrado em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20 de Novembr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n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Brasil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e é dedicado à reflexão sobre a inserção d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negro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na sociedade brasileira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emana Da Consciênci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gr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data foi escolhida por coincidir com o dia da morte d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Zumbi dos Palmare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, em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1695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umas entidades como 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Movimento Negr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 maior do gênero no país) organizam palestras e eventos educativos, visando principalmente crianças negra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ocura-se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rocura-se evitar o desenvolvimento do auto-preconceito, ou seja, da inferiorizarão perante a sociedad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tros temas debatidos pela comunidade negr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utros temas debatidos pela comunidade negra e que ganham evidência neste dia são: inserção do negro no mercado de trabalho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tas Universitárias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e há discriminação por parte da polícia, identificação de etnias, moda e beleza negra, etc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dia é celebrado desde a década d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1960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mbora só tenha ampliado seus eventos nos últimos anos; até então, o movimento negro precisava se contentar com o dia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13 de Mai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3"/>
              </a:rPr>
              <a:t>Abolição da Escravatura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– comemoração que tem sido rejeitada por enfatizar muitas vezes a "generosidade" da princesa Isab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Capoei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4360" y="1978200"/>
            <a:ext cx="777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19:03Z</dcterms:created>
  <dc:creator>SEDMS</dc:creator>
  <dc:description/>
  <dc:language>en-US</dc:language>
  <cp:lastModifiedBy>administradorr</cp:lastModifiedBy>
  <dcterms:modified xsi:type="dcterms:W3CDTF">2010-11-09T17:35:45Z</dcterms:modified>
  <cp:revision>2</cp:revision>
  <dc:subject/>
  <dc:title>Consciência Negra</dc:title>
</cp:coreProperties>
</file>